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734-038A-4706-87C2-9AD21EB1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E43-5779-4859-A994-D270C886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EA7-150C-4933-B540-617FE334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89F-67D9-45EF-8557-85D1B426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B5B-9B9B-47E9-8663-2E74DF6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851-7CC0-46A2-B355-0BD9182A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7FB-CEC4-4810-AE53-6D78848E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008-CE1E-40C9-B7DD-AEFE856B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D5E-EDE5-4EBE-B9CF-E17C2B0C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895-2741-48A5-8DD3-5B71BB9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D54-306D-4D4A-BA7B-428F7B4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C7F-9296-4D58-99E7-79EF73E6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2E04-0273-47BD-938A-A078A738624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6 Deň ku koncu sa chý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ku koncu sa chý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očná tíš vo chví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krajom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ane, prijmi chvál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za lásku, priazeň stá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hojnosť t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deň odpočinku tvoj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chlebom Slova svoj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hojne sýtil n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stále Duch tvoj ni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ás túžbu ľuďom sviet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avdy tvojej šíriť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iaď naše kroky, plán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ž stálu stráž nad na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práci úspech da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m svit tvojej tvár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na cestu svieti 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cieľa šťastne dôjs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pra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33:12Z</dcterms:modified>
  <cp:revision>11</cp:revision>
  <dc:subject/>
  <dc:title>Je veľký náš Pán, on slávy je Kráľ Nech do všetkých strán  spev vrúcnych znie chvál.</dc:title>
</cp:coreProperties>
</file>